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9A93-2656-49E2-B704-7A51E079C8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AF45-4DA8-49FC-9655-3694A5344F8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AC3-BD51-4191-91D5-92722AED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951-42D2-4132-A583-F728A180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6F1-A373-4D1B-84A7-85B4B4BA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A4B-5350-4378-8259-86CF20DE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05DD-8D49-4AEC-BA8C-8D32403B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F223-1398-421F-8FFC-36BBFA77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011C-31EF-4DE9-84FB-810C057B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2941-6A46-4517-AA63-065C0C8B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1EEC-CAAA-4956-BA4F-B041FD4C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B0DD-F957-43C2-812A-48544D03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08A0-200F-4B41-89E7-AC6421B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B3C-995B-4C01-BF51-73BAB2AB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2BA9-52C6-459D-95F6-F01647EA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BC02-E076-4D96-ADD7-FCDA5DA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9330-4958-429B-B781-73D95A49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4D6A-6020-40AE-BEDF-20E5C9C5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5BC7-F503-491D-9DEF-2AB99F5B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2327-3338-4F82-8260-D755A7A3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F5E76-B36E-40C8-AE76-6A675968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5A56F-B48C-4CAE-902D-9229D59B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8808-2237-4831-BCB0-E56315A2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9B81-91DD-4967-95DF-C74663CD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6EE-773C-4FE7-9CF2-12ADCD36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2ACE-0096-48AB-AC50-76D8F039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3452-11DA-4726-9020-101C663A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4D15-DCBB-49AA-AB96-24ECBD9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341D-79FF-467C-960F-1B8E65E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9238-27BD-439B-851E-54FBAE09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2ED0-FA35-4392-B3AF-A4CD74F0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7594-671C-432A-910C-3BB1CEFD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AB64-506C-4DE5-A2ED-1B1E56D5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E5EF1-B256-4AFB-858F-F011722D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5C38C-E2F8-49FB-B497-1983EE15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C1A-7324-4A6C-894C-15EC835E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8887-561A-4413-AFAD-C773CA3D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78DBE-5E19-4DFD-BDEC-6A560647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7E1E-E68A-4CF2-9BD9-506034E2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0631-12B5-4243-A571-02164653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1C744-4A0B-400F-BAC1-2D98E56D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9A6F-6793-47B7-BE7A-B184C49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D72F-15CE-4E86-BB1C-5256D0C2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630C7-C759-4B99-A356-BDFF2440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6D231-4FFD-4B88-A13C-D3EBBC7F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071-B6E6-490B-99C4-FD8358B4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7ED-1AAA-49A3-AB84-820D432B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A7B-5EB5-4CF5-A9BB-8D5C5BB9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219-0C83-45B1-8E00-8EE4C314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523-3C75-4F1C-B148-F13BDE11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A2B6-BE88-4DA7-80C1-9370373595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90DD-DDBE-4024-BF0A-D3F4B2F275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883F-DF6D-491C-9111-FC2738B771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B426-2009-4228-BE16-925E1F0527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32000" y="1846080"/>
            <a:ext cx="66564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Классная работа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443640" y="91908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8.11.20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3035160" cy="892080"/>
          </a:xfrm>
          <a:prstGeom prst="rect">
            <a:avLst/>
          </a:prstGeom>
          <a:ln w="0">
            <a:noFill/>
          </a:ln>
        </p:spPr>
      </p:pic>
      <p:pic>
        <p:nvPicPr>
          <p:cNvPr id="236" name="TextBox 3" descr=""/>
          <p:cNvPicPr/>
          <p:nvPr/>
        </p:nvPicPr>
        <p:blipFill>
          <a:blip r:embed="rId2"/>
          <a:stretch/>
        </p:blipFill>
        <p:spPr>
          <a:xfrm>
            <a:off x="1639800" y="2494080"/>
            <a:ext cx="669960" cy="126684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4" descr=""/>
          <p:cNvPicPr/>
          <p:nvPr/>
        </p:nvPicPr>
        <p:blipFill>
          <a:blip r:embed="rId3"/>
          <a:stretch/>
        </p:blipFill>
        <p:spPr>
          <a:xfrm>
            <a:off x="3889440" y="2975040"/>
            <a:ext cx="21207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йдите значение выраж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798560" y="1874520"/>
            <a:ext cx="1765440" cy="3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380360" y="549360"/>
            <a:ext cx="1542960" cy="13255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250920" y="27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Объект 8"/>
              <p:cNvSpPr txBox="1"/>
              <p:nvPr/>
            </p:nvSpPr>
            <p:spPr>
              <a:xfrm>
                <a:off x="1563840" y="1746360"/>
                <a:ext cx="2431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Объект 9"/>
              <p:cNvSpPr txBox="1"/>
              <p:nvPr/>
            </p:nvSpPr>
            <p:spPr>
              <a:xfrm>
                <a:off x="1787400" y="2328840"/>
                <a:ext cx="10558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5"/>
          <p:cNvSpPr/>
          <p:nvPr/>
        </p:nvSpPr>
        <p:spPr>
          <a:xfrm flipV="1">
            <a:off x="2492280" y="3989160"/>
            <a:ext cx="1199844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Объект 11"/>
              <p:cNvSpPr txBox="1"/>
              <p:nvPr/>
            </p:nvSpPr>
            <p:spPr>
              <a:xfrm>
                <a:off x="1563840" y="3541680"/>
                <a:ext cx="1552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Объект 12"/>
              <p:cNvSpPr txBox="1"/>
              <p:nvPr/>
            </p:nvSpPr>
            <p:spPr>
              <a:xfrm>
                <a:off x="1873080" y="4275000"/>
                <a:ext cx="6829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Объект 13"/>
              <p:cNvSpPr txBox="1"/>
              <p:nvPr/>
            </p:nvSpPr>
            <p:spPr>
              <a:xfrm>
                <a:off x="1809720" y="5148360"/>
                <a:ext cx="8906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13"/>
          <p:cNvSpPr/>
          <p:nvPr/>
        </p:nvSpPr>
        <p:spPr>
          <a:xfrm>
            <a:off x="6300720" y="1925640"/>
            <a:ext cx="218901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Объект 15"/>
              <p:cNvSpPr txBox="1"/>
              <p:nvPr/>
            </p:nvSpPr>
            <p:spPr>
              <a:xfrm>
                <a:off x="6300720" y="1685880"/>
                <a:ext cx="1440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Объект 16"/>
              <p:cNvSpPr txBox="1"/>
              <p:nvPr/>
            </p:nvSpPr>
            <p:spPr>
              <a:xfrm>
                <a:off x="6364440" y="2325600"/>
                <a:ext cx="10159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16"/>
          <p:cNvSpPr/>
          <p:nvPr/>
        </p:nvSpPr>
        <p:spPr>
          <a:xfrm>
            <a:off x="3595680" y="3602160"/>
            <a:ext cx="1943568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Объект 18"/>
              <p:cNvSpPr txBox="1"/>
              <p:nvPr/>
            </p:nvSpPr>
            <p:spPr>
              <a:xfrm>
                <a:off x="6275520" y="3475080"/>
                <a:ext cx="14652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Объект 19"/>
              <p:cNvSpPr txBox="1"/>
              <p:nvPr/>
            </p:nvSpPr>
            <p:spPr>
              <a:xfrm>
                <a:off x="6523200" y="4062240"/>
                <a:ext cx="863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Объект 20"/>
              <p:cNvSpPr txBox="1"/>
              <p:nvPr/>
            </p:nvSpPr>
            <p:spPr>
              <a:xfrm>
                <a:off x="6681960" y="5103720"/>
                <a:ext cx="8953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амопровер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98560" y="1874520"/>
            <a:ext cx="1765440" cy="3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297200" y="30240"/>
            <a:ext cx="1543320" cy="1326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"/>
          <p:cNvSpPr/>
          <p:nvPr/>
        </p:nvSpPr>
        <p:spPr>
          <a:xfrm>
            <a:off x="250920" y="27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Объект 8"/>
              <p:cNvSpPr txBox="1"/>
              <p:nvPr/>
            </p:nvSpPr>
            <p:spPr>
              <a:xfrm>
                <a:off x="1563840" y="1746360"/>
                <a:ext cx="2431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Объект 9"/>
              <p:cNvSpPr txBox="1"/>
              <p:nvPr/>
            </p:nvSpPr>
            <p:spPr>
              <a:xfrm>
                <a:off x="1787400" y="2328840"/>
                <a:ext cx="10558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5"/>
          <p:cNvSpPr/>
          <p:nvPr/>
        </p:nvSpPr>
        <p:spPr>
          <a:xfrm flipV="1">
            <a:off x="2492280" y="3989160"/>
            <a:ext cx="1199844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Объект 11"/>
              <p:cNvSpPr txBox="1"/>
              <p:nvPr/>
            </p:nvSpPr>
            <p:spPr>
              <a:xfrm>
                <a:off x="1563840" y="3541680"/>
                <a:ext cx="1552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Объект 12"/>
              <p:cNvSpPr txBox="1"/>
              <p:nvPr/>
            </p:nvSpPr>
            <p:spPr>
              <a:xfrm>
                <a:off x="1873080" y="4275000"/>
                <a:ext cx="6829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Объект 13"/>
              <p:cNvSpPr txBox="1"/>
              <p:nvPr/>
            </p:nvSpPr>
            <p:spPr>
              <a:xfrm>
                <a:off x="1809720" y="5148360"/>
                <a:ext cx="8906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13"/>
          <p:cNvSpPr/>
          <p:nvPr/>
        </p:nvSpPr>
        <p:spPr>
          <a:xfrm>
            <a:off x="6300720" y="1925640"/>
            <a:ext cx="218901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Объект 15"/>
              <p:cNvSpPr txBox="1"/>
              <p:nvPr/>
            </p:nvSpPr>
            <p:spPr>
              <a:xfrm>
                <a:off x="6300720" y="1685880"/>
                <a:ext cx="1440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Объект 16"/>
              <p:cNvSpPr txBox="1"/>
              <p:nvPr/>
            </p:nvSpPr>
            <p:spPr>
              <a:xfrm>
                <a:off x="6364440" y="2325600"/>
                <a:ext cx="10159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16"/>
          <p:cNvSpPr/>
          <p:nvPr/>
        </p:nvSpPr>
        <p:spPr>
          <a:xfrm>
            <a:off x="3595680" y="3602160"/>
            <a:ext cx="1943568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Объект 18"/>
              <p:cNvSpPr txBox="1"/>
              <p:nvPr/>
            </p:nvSpPr>
            <p:spPr>
              <a:xfrm>
                <a:off x="6275520" y="3475080"/>
                <a:ext cx="14652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Объект 19"/>
              <p:cNvSpPr txBox="1"/>
              <p:nvPr/>
            </p:nvSpPr>
            <p:spPr>
              <a:xfrm>
                <a:off x="6523200" y="4062240"/>
                <a:ext cx="863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Объект 20"/>
              <p:cNvSpPr txBox="1"/>
              <p:nvPr/>
            </p:nvSpPr>
            <p:spPr>
              <a:xfrm>
                <a:off x="6681960" y="5103720"/>
                <a:ext cx="8953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Скругленный прямоугольник 4"/>
          <p:cNvSpPr/>
          <p:nvPr/>
        </p:nvSpPr>
        <p:spPr>
          <a:xfrm>
            <a:off x="4168800" y="1822320"/>
            <a:ext cx="690480" cy="44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4170240" y="2706840"/>
            <a:ext cx="835200" cy="669600"/>
          </a:xfrm>
          <a:prstGeom prst="rect">
            <a:avLst/>
          </a:prstGeom>
          <a:ln w="0">
            <a:noFill/>
          </a:ln>
        </p:spPr>
      </p:pic>
      <p:sp>
        <p:nvSpPr>
          <p:cNvPr id="274" name="Скругленный прямоугольник 6"/>
          <p:cNvSpPr/>
          <p:nvPr/>
        </p:nvSpPr>
        <p:spPr>
          <a:xfrm>
            <a:off x="4168800" y="3541680"/>
            <a:ext cx="834840" cy="52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Скругленный прямоугольник 21"/>
          <p:cNvSpPr/>
          <p:nvPr/>
        </p:nvSpPr>
        <p:spPr>
          <a:xfrm>
            <a:off x="3995640" y="4408560"/>
            <a:ext cx="792360" cy="56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Скругленный прямоугольник 22" descr=""/>
          <p:cNvPicPr/>
          <p:nvPr/>
        </p:nvPicPr>
        <p:blipFill>
          <a:blip r:embed="rId3"/>
          <a:stretch/>
        </p:blipFill>
        <p:spPr>
          <a:xfrm>
            <a:off x="3852720" y="5248440"/>
            <a:ext cx="719280" cy="645840"/>
          </a:xfrm>
          <a:prstGeom prst="rect">
            <a:avLst/>
          </a:prstGeom>
          <a:ln w="0">
            <a:noFill/>
          </a:ln>
        </p:spPr>
      </p:pic>
      <p:sp>
        <p:nvSpPr>
          <p:cNvPr id="277" name="Скругленный прямоугольник 23"/>
          <p:cNvSpPr/>
          <p:nvPr/>
        </p:nvSpPr>
        <p:spPr>
          <a:xfrm>
            <a:off x="8028000" y="1719360"/>
            <a:ext cx="658800" cy="54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Скругленный прямоугольник 24" descr=""/>
          <p:cNvPicPr/>
          <p:nvPr/>
        </p:nvPicPr>
        <p:blipFill>
          <a:blip r:embed="rId4"/>
          <a:stretch/>
        </p:blipFill>
        <p:spPr>
          <a:xfrm>
            <a:off x="8028000" y="2567160"/>
            <a:ext cx="714240" cy="809280"/>
          </a:xfrm>
          <a:prstGeom prst="rect">
            <a:avLst/>
          </a:prstGeom>
          <a:ln w="0">
            <a:noFill/>
          </a:ln>
        </p:spPr>
      </p:pic>
      <p:sp>
        <p:nvSpPr>
          <p:cNvPr id="279" name="Скругленный прямоугольник 25"/>
          <p:cNvSpPr/>
          <p:nvPr/>
        </p:nvSpPr>
        <p:spPr>
          <a:xfrm>
            <a:off x="8028000" y="3622680"/>
            <a:ext cx="812880" cy="509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Скругленный прямоугольник 26"/>
          <p:cNvSpPr/>
          <p:nvPr/>
        </p:nvSpPr>
        <p:spPr>
          <a:xfrm>
            <a:off x="8028000" y="4408560"/>
            <a:ext cx="812880" cy="66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Скругленный прямоугольник 27" descr=""/>
          <p:cNvPicPr/>
          <p:nvPr/>
        </p:nvPicPr>
        <p:blipFill>
          <a:blip r:embed="rId5"/>
          <a:stretch/>
        </p:blipFill>
        <p:spPr>
          <a:xfrm>
            <a:off x="8028000" y="5261040"/>
            <a:ext cx="81108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571760" y="1428840"/>
            <a:ext cx="664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ового м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какие цели мы ставили перед соб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, нам удалось достигнуть поставленных целе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ерь я мог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692000" y="549360"/>
            <a:ext cx="678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.16 Выучить свой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71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желанию: №3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6"/>
          <p:cNvSpPr txBox="1"/>
          <p:nvPr/>
        </p:nvSpPr>
        <p:spPr>
          <a:xfrm>
            <a:off x="900000" y="836640"/>
            <a:ext cx="7344000" cy="28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окончен.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 каком значении а  имеет смысл выражени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Содержимое 2" descr=""/>
          <p:cNvPicPr/>
          <p:nvPr/>
        </p:nvPicPr>
        <p:blipFill>
          <a:blip r:embed="rId1"/>
          <a:stretch/>
        </p:blipFill>
        <p:spPr>
          <a:xfrm>
            <a:off x="1785960" y="1285920"/>
            <a:ext cx="6572160" cy="50544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2"/>
          <a:stretch/>
        </p:blipFill>
        <p:spPr>
          <a:xfrm>
            <a:off x="3430440" y="1913040"/>
            <a:ext cx="1103400" cy="785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4343040" y="479160"/>
            <a:ext cx="45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4863960" y="1866960"/>
            <a:ext cx="1495440" cy="785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4385520" y="47916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4"/>
          <a:stretch/>
        </p:blipFill>
        <p:spPr>
          <a:xfrm>
            <a:off x="6605640" y="1770120"/>
            <a:ext cx="1506600" cy="928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4257720" y="488520"/>
            <a:ext cx="62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4396320" y="63144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айти значение выра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Объект 2" descr=""/>
          <p:cNvPicPr/>
          <p:nvPr/>
        </p:nvPicPr>
        <p:blipFill>
          <a:blip r:embed="rId1"/>
          <a:stretch/>
        </p:blipFill>
        <p:spPr>
          <a:xfrm>
            <a:off x="1762200" y="1627200"/>
            <a:ext cx="6924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ычисли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Содержимое 2" descr=""/>
          <p:cNvPicPr/>
          <p:nvPr/>
        </p:nvPicPr>
        <p:blipFill>
          <a:blip r:embed="rId1"/>
          <a:stretch/>
        </p:blipFill>
        <p:spPr>
          <a:xfrm>
            <a:off x="1359000" y="669960"/>
            <a:ext cx="7535880" cy="56386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4396320" y="68868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Овал 1"/>
          <p:cNvSpPr/>
          <p:nvPr/>
        </p:nvSpPr>
        <p:spPr>
          <a:xfrm>
            <a:off x="5435640" y="798480"/>
            <a:ext cx="574560" cy="325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Овал 2"/>
          <p:cNvSpPr/>
          <p:nvPr/>
        </p:nvSpPr>
        <p:spPr>
          <a:xfrm>
            <a:off x="5435640" y="1254240"/>
            <a:ext cx="790560" cy="43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Овал 3"/>
          <p:cNvSpPr/>
          <p:nvPr/>
        </p:nvSpPr>
        <p:spPr>
          <a:xfrm>
            <a:off x="5465880" y="1893960"/>
            <a:ext cx="906480" cy="442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Овал 4"/>
          <p:cNvSpPr/>
          <p:nvPr/>
        </p:nvSpPr>
        <p:spPr>
          <a:xfrm>
            <a:off x="5543640" y="2571840"/>
            <a:ext cx="1008000" cy="49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Овал 5" descr=""/>
          <p:cNvPicPr/>
          <p:nvPr/>
        </p:nvPicPr>
        <p:blipFill>
          <a:blip r:embed="rId2"/>
          <a:stretch/>
        </p:blipFill>
        <p:spPr>
          <a:xfrm>
            <a:off x="5541840" y="3236760"/>
            <a:ext cx="938160" cy="719280"/>
          </a:xfrm>
          <a:prstGeom prst="rect">
            <a:avLst/>
          </a:prstGeom>
          <a:ln w="0">
            <a:noFill/>
          </a:ln>
        </p:spPr>
      </p:pic>
      <p:sp>
        <p:nvSpPr>
          <p:cNvPr id="204" name="Овал 6"/>
          <p:cNvSpPr/>
          <p:nvPr/>
        </p:nvSpPr>
        <p:spPr>
          <a:xfrm>
            <a:off x="5722920" y="4133880"/>
            <a:ext cx="865080" cy="59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5830920" y="5013360"/>
            <a:ext cx="757080" cy="43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Овал 8"/>
          <p:cNvSpPr/>
          <p:nvPr/>
        </p:nvSpPr>
        <p:spPr>
          <a:xfrm>
            <a:off x="6154560" y="5562720"/>
            <a:ext cx="64944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авая фигурная скобка 10"/>
          <p:cNvSpPr/>
          <p:nvPr/>
        </p:nvSpPr>
        <p:spPr>
          <a:xfrm>
            <a:off x="7093080" y="5013360"/>
            <a:ext cx="287280" cy="11253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125360"/>
              <a:gd name="textAreaBottom" fmla="*/ 111816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16200" y="10800"/>
                  <a:pt x="21600" y="10800"/>
                </a:cubicBezTo>
                <a:cubicBezTo>
                  <a:pt x="162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752472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войства арифметического  квадратного кор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37712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ить новые свойства арифметического  квадратного кор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иться применять свойства при выполнении зад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йства  стр.89-90 учеб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56840" y="1323720"/>
            <a:ext cx="724716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.Корень из произведений неотрицательных множителей равен </a:t>
            </a:r>
            <a:r>
              <a:rPr b="1" i="1" lang="ru-RU" sz="2700" spc="-1" strike="noStrike">
                <a:solidFill>
                  <a:srgbClr val="ff0000"/>
                </a:solidFill>
                <a:latin typeface="Times New Roman"/>
              </a:rPr>
              <a:t>произведению корней из этих множителе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=          ·         </a:t>
            </a:r>
            <a:r>
              <a:rPr b="1" i="1" lang="ru-RU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 a ≥ 0; b ≥ 0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2.Корень из дроби, числитель которой неотрицателен, а знаменатель положителен, равен </a:t>
            </a:r>
            <a:r>
              <a:rPr b="1" i="1" lang="ru-RU" sz="2700" spc="-1" strike="noStrike">
                <a:solidFill>
                  <a:srgbClr val="ff0000"/>
                </a:solidFill>
                <a:latin typeface="Times New Roman"/>
              </a:rPr>
              <a:t>корню из числителя, деленному на корень из знаменател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i="1" lang="ru-RU" sz="27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      ( a ≥ 0, b ˃ 0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1455840" cy="714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5071320" y="48384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382920" y="2341440"/>
            <a:ext cx="728640" cy="7146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0" descr=""/>
          <p:cNvPicPr/>
          <p:nvPr/>
        </p:nvPicPr>
        <p:blipFill>
          <a:blip r:embed="rId3"/>
          <a:stretch/>
        </p:blipFill>
        <p:spPr>
          <a:xfrm>
            <a:off x="4313160" y="2367000"/>
            <a:ext cx="571680" cy="689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2" descr=""/>
          <p:cNvPicPr/>
          <p:nvPr/>
        </p:nvPicPr>
        <p:blipFill>
          <a:blip r:embed="rId4"/>
          <a:stretch/>
        </p:blipFill>
        <p:spPr>
          <a:xfrm>
            <a:off x="1994040" y="4633920"/>
            <a:ext cx="769680" cy="14288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4"/>
          <p:cNvSpPr/>
          <p:nvPr/>
        </p:nvSpPr>
        <p:spPr>
          <a:xfrm>
            <a:off x="4428360" y="85068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5" descr=""/>
          <p:cNvPicPr/>
          <p:nvPr/>
        </p:nvPicPr>
        <p:blipFill>
          <a:blip r:embed="rId5"/>
          <a:stretch/>
        </p:blipFill>
        <p:spPr>
          <a:xfrm>
            <a:off x="3502080" y="4786200"/>
            <a:ext cx="492120" cy="11239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7"/>
          <p:cNvSpPr/>
          <p:nvPr/>
        </p:nvSpPr>
        <p:spPr>
          <a:xfrm>
            <a:off x="4311000" y="678960"/>
            <a:ext cx="52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и расскажите соседу по парте, свойства арифметического квадратного кор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Объект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08c9-00070da8-0b576877.mp4" descr=""/>
          <p:cNvPicPr/>
          <p:nvPr/>
        </p:nvPicPr>
        <p:blipFill>
          <a:blip r:embed="rId1"/>
          <a:stretch/>
        </p:blipFill>
        <p:spPr>
          <a:xfrm>
            <a:off x="-314280" y="115920"/>
            <a:ext cx="9458280" cy="72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cp:lastPrinted>2024-11-07T13:04:01Z</cp:lastPrinted>
  <dcterms:modified xsi:type="dcterms:W3CDTF">2024-11-07T13:35:03Z</dcterms:modified>
  <cp:revision>157</cp:revision>
  <dc:subject/>
  <dc:title>Слайд 1</dc:title>
</cp:coreProperties>
</file>